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3C29-9510-46F1-9C8A-9599FFEA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AB8-0B76-4A89-BE34-09F69E72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D5D-8872-41E2-974D-D88A4425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D50-2799-43B7-86B2-26081E55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91E9-1564-4AB5-B995-91800014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656D-F982-4F44-8949-3F491F67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E3F2-FA7B-472D-93E0-D584F21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DD0F-715C-4858-9506-1E657AD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B886-42BD-4B37-8824-2C05C30A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761-7C64-4B07-A9EF-F885ADB5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915E-A1AF-4243-BCE4-3D690BD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7EA-CE3E-4476-B409-366D1BAE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D086-C9D7-4E0C-B9B1-2416B914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AFF7-04A1-4F27-99C4-710CD191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502-30A7-4CDB-8532-E6C26497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D688-E91B-4B37-8D1A-A23444F5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CBCE-24AD-4913-8EED-47FD532B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B28-0770-4389-BE3D-C17941BA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6A1-94F5-4900-9085-2C6320F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92D-7216-420B-A6E7-F80D187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99EC-E51C-4142-A5ED-AC19C5A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0BA-28F4-4344-812B-2FCA63FB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5B7-51C3-4378-9347-29CE1EF3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6AA-D7EC-486D-9867-2563B51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7F1-EC95-4C16-AA60-25CF0DE8248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651640" y="5877000"/>
            <a:ext cx="3492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6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613-3AEE-4DF6-A7AA-08FAD784693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efischu.wm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ec-formation.net/defischu.wm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349360"/>
            <a:ext cx="8351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L’implantation de la méthodologie </a:t>
            </a:r>
            <a:br>
              <a:rPr sz="2800"/>
            </a:b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Gineste- Marescotti </a:t>
            </a:r>
            <a:br>
              <a:rPr sz="2800"/>
            </a:br>
            <a:r>
              <a:rPr b="1" lang="fr-CA" sz="2800" spc="-1" strike="noStrike">
                <a:solidFill>
                  <a:srgbClr val="000099"/>
                </a:solidFill>
                <a:latin typeface="Arial"/>
              </a:rPr>
              <a:t>au Centre  hospitalier universitaire de Québec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1600" y="4508640"/>
            <a:ext cx="6400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lles Le Beau, Ingénieu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eur de l’amélioration des conditions au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entre hospitalier universitaire de Québec,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1 mai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2920" y="4005360"/>
            <a:ext cx="41767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44280"/>
            <a:ext cx="9036000" cy="2016000"/>
            <a:chOff x="0" y="44280"/>
            <a:chExt cx="9036000" cy="2016000"/>
          </a:xfrm>
        </p:grpSpPr>
        <p:pic>
          <p:nvPicPr>
            <p:cNvPr id="113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47640" y="117000"/>
              <a:ext cx="1262160" cy="187020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6227640" y="44280"/>
              <a:ext cx="1224000" cy="810720"/>
            </a:xfrm>
            <a:prstGeom prst="rect">
              <a:avLst/>
            </a:prstGeom>
            <a:ln w="50760">
              <a:solidFill>
                <a:srgbClr val="5f5f5f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6211800" y="1023120"/>
              <a:ext cx="1168560" cy="96444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3008160" y="188640"/>
              <a:ext cx="1419480" cy="187164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tretch/>
          </p:blipFill>
          <p:spPr>
            <a:xfrm>
              <a:off x="4627440" y="44280"/>
              <a:ext cx="1384560" cy="18435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tretch/>
          </p:blipFill>
          <p:spPr>
            <a:xfrm>
              <a:off x="0" y="333000"/>
              <a:ext cx="1332000" cy="123552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119" name="" descr=""/>
            <p:cNvPicPr/>
            <p:nvPr/>
          </p:nvPicPr>
          <p:blipFill>
            <a:blip r:embed="rId8"/>
            <a:stretch/>
          </p:blipFill>
          <p:spPr>
            <a:xfrm>
              <a:off x="7677000" y="259920"/>
              <a:ext cx="1359000" cy="146592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48736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Lien de la méthodologie avec la philosophie de soins du CHUQ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99"/>
                </a:solidFill>
                <a:latin typeface="Tahoma"/>
              </a:rPr>
              <a:t>S’inspire grandement de l’approche humanis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99"/>
                </a:solidFill>
                <a:latin typeface="Tahoma"/>
              </a:rPr>
              <a:t>Représente les éléments sur lesquels se fonde notre conception des soins : la personne, l’environnement, la santé et les soins infirmiers qui s’intègrent aux dimensions  du « caring 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Lien avec la philosophie de soins du CHUQ -  le «caring»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Le «caring» est au cœur des soins infirmiers, il est une façon d’être, d’être en relation et  d’ag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Il signifie cette relation à l’autre, cette préoccupation pour l’autre qui rend capable de soigner vra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Il réunit la pensée, le sentiment, l’action, le savoir et l’être. (Benner &amp; Wrubel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Opération de sensibilisation CHUQ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2003-2004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eadership du 1</a:t>
            </a:r>
            <a:r>
              <a:rPr b="1" lang="en-US" sz="2400" spc="-1" strike="noStrike" baseline="30000">
                <a:solidFill>
                  <a:srgbClr val="000099"/>
                </a:solidFill>
                <a:latin typeface="Tahoma"/>
              </a:rPr>
              <a:t>er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Centre-est du CHUL - poursuite des travaux de la démarche appréciative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hilosophie et approche de développement organisationnel dont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’idée de base est de centrer l’attention et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’énergie des personnes sur le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forces et les aspects positifs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plutôt que sur leur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faiblesses et problè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5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ération de sensibilisation CHUQ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03-2004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Juin 2003 : Visite de M. Gines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Conférences, visite de l’unité, rencontre du personnel, démonstration pour 300 invi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Juin  2004 : Seconde visite de M. Gines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Conférences, séminaires publics, démonstration et rencontre de 500 personnes clés du CHUQ et de la ré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191120" cy="62168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77156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4000" y="23760"/>
            <a:ext cx="8351640" cy="6729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Implantation de la méthodologie</a:t>
            </a:r>
            <a:br>
              <a:rPr sz="3200"/>
            </a:b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 au CHUQ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84428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ans un horizon de quatre ans, dispenser à la clientèle vieillissante des soins et des services de qualité basés sur </a:t>
            </a:r>
            <a:r>
              <a:rPr b="1" i="1" lang="en-US" sz="2400" spc="-1" strike="noStrike">
                <a:solidFill>
                  <a:srgbClr val="000099"/>
                </a:solidFill>
                <a:latin typeface="Tahoma"/>
              </a:rPr>
              <a:t>l’Human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éfis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mplanter la méthodologie à l’environnement de «court séjour» et l’exporter vers les «secteurs aigus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dapter la formation à notre réal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632720" cy="508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720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ÉTAPES DE L’IMPLANTATION DE LA MÉTHODOLOGIE AU CHUQ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81532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Stratégies de réal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Approbation par les différentes directions et conseils du CHU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Implication du syndic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Choix de deux unité pilo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Formation d’une équipe de formateurs multidisciplinaires expérimen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ÉTAPES DE L’IMPLANTATION DE LA MÉTHODOLOGIE AU CHUQ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Développement et validation d’un contenu pédagogique de formation adaptée pour les infirmières et les professionne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Formation des intervenants des deux unités de soins ret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Développement d’un cadre de rendement de l’impla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an de communication interne-exter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Quelques artisans de l’implantation de la méthodologie au CHUQ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77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Témoignages vidéos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Sylvie Boucher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Cogestionnaire du regroupement de clientèles – Personnes adultes en perte d’autonomie et responsable des services généraux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86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Auteure ou co-auteure  de présentations et textes ayant servi de source d’inspiration à cette confé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Lucie Bilodeau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Coordonnatrice d’activités, Maison Paul-Triqu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Russel Robitaille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Préposé aux bénéficiaires, Maison Paul-Triqu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Lise Bérubé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Infirmière clinicienne, Maison Paul-Triqu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Michèle Bédard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Infirmière,</a:t>
            </a: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Unité de soins de courte durée gériatr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Sylvie Imbeault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Infirmière clinicienne, Unité de soins de courte durée gériatr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99"/>
                </a:solidFill>
                <a:latin typeface="Tahoma"/>
              </a:rPr>
              <a:t>Michel Boudreault : </a:t>
            </a:r>
            <a:r>
              <a:rPr b="0" lang="fr-CA" sz="2000" spc="-1" strike="noStrike">
                <a:solidFill>
                  <a:srgbClr val="000099"/>
                </a:solidFill>
                <a:latin typeface="Tahoma"/>
              </a:rPr>
              <a:t>Directeur des ressources humaines et du développement des compét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T PILO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0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Deux unités pilotes 2003 - 200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CDG CHUL (courte duré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MPT (longue duré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hoix du contenu pédagog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daptation de la formation de l ’ASSTS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Développer et valider un contenu pédagogique de formation adaptée pour les infirmières et les profess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ormation de 6 formateu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ormation de 80 intervenants multidisciplinaires dans les 2 unités pilo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T PILO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oursuite de la formation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2006 (83 personn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oaching des formateurs par IGM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CDG CHUL (courte durée) et MPT (longue durée) pour ceux qui n’ont pas eu la 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nité des vétérans (longue durée) (CHU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Unité de soins de médecine interne (HSF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hoix du contenu pédagogique ASSTSAS/ IGM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JET PILO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oursuite de la formation </a:t>
            </a: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2007 : en cours 80 personnes concer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Consolidation dans les unités précéd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jout de l’unité de courte durée gériatrique (HSF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Formation dans toutes les unités réguliè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hoix du contenu pédagogique IGM Ca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IMPLANTATION DE LA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MÉTHODOLOGIE AU CHUQ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1532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Stratégies de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Suivi auprès du comité des services aux clientèles du conseil d’administration du CHU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ce0000"/>
                </a:solidFill>
                <a:latin typeface="Tahoma"/>
              </a:rPr>
              <a:t>Gagnant d’un prix Sirius  CHUQ 2005 dans la catégorie «Excellence services aux patients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usieurs conférences dans divers colloques au Québ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Candidature soumise pour le prix d’excellence du réseau de la santé et des services sociaux catégorie « Accessibilité aux soins et services, février 2007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égration da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s objectifs du CHUQ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gramme d’intégration du personnel professionnel et non profession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gramme de formation spécifique  sur le vieillissement (en cou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ormation du comité de pratique réflective gériatr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iens avec les maisons d’enseign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ppuyer l’approche sur les données probantes 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mélioration de la qualité des soi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dicateurs de qualité : contentions, chutes et mé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esure au temps t=0: nouvelle mesure à venir au temps t=2 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RE DE RENDE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  <p:sp>
        <p:nvSpPr>
          <p:cNvPr id="193" name=""/>
          <p:cNvSpPr/>
          <p:nvPr/>
        </p:nvSpPr>
        <p:spPr>
          <a:xfrm>
            <a:off x="900000" y="5805360"/>
            <a:ext cx="807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Tahoma"/>
              </a:rPr>
              <a:t>En lien avec la mission du CHUQ en matière d’évaluation des programmes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RE DE RENDEMEN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Évaluation su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Questionnaire auto administré aux participants à la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Évaluation scientifique obj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Observation directe de situations de s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ubjectiv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atisfaction élevée du contenu et des méthodes pédagogiques par les formate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Participants déclarent utiliser l’approche lors des s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uscite un sentiment de compétence chez le person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 u="sng">
                <a:solidFill>
                  <a:srgbClr val="000099"/>
                </a:solidFill>
                <a:uFillTx/>
                <a:latin typeface="Tahoma"/>
              </a:rPr>
              <a:t>Objective </a:t>
            </a: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: résultats prélimin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158 observations par des chercheurs en 2005 et 424 en 200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4 situations de soins en 2005 (élimination, alimentation, hygiène, déplacemen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2006 : ajout de prise des signes vitaux, administration de mé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3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8 indicateurs d’utilisation de la méthodologi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Utilisation concrète des indicateurs variant de 20,9 % à 62,7 % en 2005 et de 24,3 % à 64,9 % en 2006. (meilleur résultat obtenu toutes formations confondu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LAN DE PRÉSENT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SSTSAS : contexte e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ensibilisation à la méthodologie au CHU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ojet pilo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adre de rend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emiers résult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ersonnel formé et non form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ffet culturel envers l’utilisation du toucher? Le réflexe de l’utilisation de la paume de la main peut-être un long apprenti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onne démonstration de la formation au bénéfice du transfert des compét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atients : étude très prélimina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Évaluation à deux repri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5 patients atteints de déficit cognitif avec la grille d’inventaire d’agitation de Cohen Mans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7 patients en courte durée avec l’échelle de mesure d’autonomie physi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Bilan de l’évaluation</a:t>
            </a:r>
            <a:r>
              <a:rPr b="0" lang="fr-CA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Effet démontré malgré le petit échantillon d’une diminution des comportements perturbateurs de patients en longue duré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Effet non démontré en «courte durée» de l’amélioration de l’autonomie fonctionn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ce0000"/>
                </a:solidFill>
                <a:latin typeface="Tahoma"/>
              </a:rPr>
              <a:t>Mais mise en évidence échantillon non significatif/choix de l’outil de mesure à revo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73454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83452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miers résultats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mélioration des soins e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ermet une réévaluation de la compétence des patients dans leur participation aux s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Meilleure disponibilité psychologique du personnel à une relation thérapeut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e plus grande humanisation des s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 sentiment d’efficacité qui rend les soins plus faciles et un meilleur contact avec les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miers résulta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suit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méliore les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conditions d’exercice du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travail 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t l’ambiance dans l’unit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ermet d’offrir au personnel une approche qui agit sur le sentiment d’efficacité et la satisfaction du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Redéfinit la notion de performance à partir de la primauté du contact avec l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puie l’équipe dans les situations diffic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miers résultat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(suite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e programme de formation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émontre un effet sur la pratique des soins et est perçu comme utilisable par le perso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préciation élevée de la relation égalitaire avec les formateurs issus des unités de s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ermet d’approfondir et d’analyser nos façons de fa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’alternance entre la théorie et la pratique est très apprécié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Témoignages : </a:t>
            </a: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ommentaires du premier groupe d’intervenants formés  lors de l’activité de consolidation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2565000"/>
            <a:ext cx="75438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Vivre le moment présent avec nos patients dans un contexte de vit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Les patients se sentent aimés, ils apprécient l’approche et le di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Favorise l’autonomie de nos pat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476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Apporte de la reconnaissance et des «feed-back» positi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Témoignages : </a:t>
            </a: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Commentaires du premier groupe d’intervenants formés  lors de l’activité de consolidation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3920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Les relations entre nous sont  de plus en plus faciles  car le travail est plus agréable et facilit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20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Nous prenons conscience de l’humain tous en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2040"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ahoma"/>
              </a:rPr>
              <a:t>Rare formation favorisant l’équilibre entre la théorie et la prat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486640" y="692280"/>
            <a:ext cx="657000" cy="965160"/>
            <a:chOff x="8486640" y="692280"/>
            <a:chExt cx="657000" cy="96516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8773920" y="692280"/>
              <a:ext cx="36972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8486640" y="923760"/>
              <a:ext cx="259200" cy="51732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  <p:sp>
        <p:nvSpPr>
          <p:cNvPr id="233" name=""/>
          <p:cNvSpPr/>
          <p:nvPr/>
        </p:nvSpPr>
        <p:spPr>
          <a:xfrm>
            <a:off x="143208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1989000"/>
            <a:ext cx="77043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0480" indent="-50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a méthodologie fonctionne aussi en courte dur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 La stratégie de formation est efficace : dès qu’un nombre assez grand de personnes est formé, la contamination s’instal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503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ce0000"/>
                </a:solidFill>
                <a:latin typeface="Tahoma"/>
              </a:rPr>
              <a:t>Il est évident que l’expérience est une réus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La petite histoire de la collaboration entre l’ASSTSAS et  Gineste-Marescoti </a:t>
            </a:r>
            <a:br>
              <a:rPr sz="2800"/>
            </a:br>
            <a:r>
              <a:rPr b="1" lang="fr-CA" sz="2800" spc="-1" strike="noStrike">
                <a:solidFill>
                  <a:srgbClr val="ffffff"/>
                </a:solidFill>
                <a:latin typeface="Tahoma"/>
              </a:rPr>
              <a:t>au Québe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1998 : Première rencontre avec M. Yves Gines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0 : Entente de partenari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1 : Stage de conseillers e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2 : Première formation t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2003 à aujourd’hui: Deux fournisseurs de la formation selon la méthodolo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SSTSAS : approche relationnelle de so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IGM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La mise à jour périodique de la formation est nécessaire pour intégrer tous les aspects. La présence de formateurs ou de référents dans les unités est essentiel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5. La méthodologie est maintenant bien ancrée dans nos pratiques internes et fait partie de notre développement futu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ALEMENT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  <p:sp>
        <p:nvSpPr>
          <p:cNvPr id="242" name=""/>
          <p:cNvSpPr/>
          <p:nvPr/>
        </p:nvSpPr>
        <p:spPr>
          <a:xfrm>
            <a:off x="1432080" y="216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26920" y="2014560"/>
            <a:ext cx="8089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ette approche est à la foi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e philosophie organisationnel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articip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nterdisciplin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lle s’appuie s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e potentiel de la pers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a promotion de son autonomie fonctionne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Une réponse adaptée à ses be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7128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666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ci de votre attention ! 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ienvenue chez nous en 2008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Venez célébrer avec nous 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00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anniversaire de la ville de Québec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61672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Avantages perçus par le conseil d’administration de l’ASSTSAS </a:t>
            </a:r>
            <a:r>
              <a:rPr b="1" lang="fr-CA" sz="24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anté psycholog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Sens du travail (préposé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Reconnaiss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Tahoma"/>
              </a:rPr>
              <a:t>Qualité des so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5157720"/>
            <a:ext cx="726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99"/>
                </a:solidFill>
                <a:latin typeface="Tahoma"/>
              </a:rPr>
              <a:t>Association pour la santé et la sécurité du travail secteur affaire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 d’autres mots!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us les patients sont autonomes, plus le travail des soignants devient sécuritai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Plus la relation entre les patients et le soignant est harmonieuse, plus les soignants sont satisfaits de leur trav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99"/>
                </a:solidFill>
                <a:latin typeface="Tahoma"/>
              </a:rPr>
              <a:t>Les mauvaises réactions des patients sont limitées par des interventions judicieuses des soignants et le recours au langage verbal et non verb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UQ : CONTEX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830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-391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ojet organisationnel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ahoma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Premier CHU au Québec à expérimenter la méth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pui de la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-2192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Lien avec la vision partagée des soins infirmiers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u CHU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9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1) Impact de la méthodologie sur les dimensions   culturelle, politique et tech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5600" y="3048120"/>
            <a:ext cx="6028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Témoignage vidéo 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directeur des ressources hum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a"/>
            </a:gs>
            <a:gs pos="100000">
              <a:srgbClr val="6565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UQ : CONTEXT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6050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lientèle vieillissan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rebuchet MS"/>
              </a:rPr>
              <a:t>Problématique des soins de courte durée vs la démograph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rebuchet MS"/>
              </a:rPr>
              <a:t>Adaptation de la prestation de service à la clientè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tout à la mobilisation des équi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timulation de l’intérêt à travailler avec la clientèle vieilliss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84720" y="260280"/>
            <a:ext cx="2962440" cy="1800360"/>
            <a:chOff x="6084720" y="260280"/>
            <a:chExt cx="2962440" cy="18003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7380360" y="260280"/>
              <a:ext cx="1666800" cy="18003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6084720" y="692280"/>
              <a:ext cx="1168560" cy="965160"/>
            </a:xfrm>
            <a:prstGeom prst="rect">
              <a:avLst/>
            </a:prstGeom>
            <a:ln w="63360">
              <a:solidFill>
                <a:srgbClr val="5f5f5f"/>
              </a:solidFill>
              <a:miter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crétariat</cp:lastModifiedBy>
  <dcterms:modified xsi:type="dcterms:W3CDTF">2007-10-13T07:17:53Z</dcterms:modified>
  <cp:revision>4</cp:revision>
  <dc:subject/>
  <dc:title>Présentation PowerPoint</dc:title>
</cp:coreProperties>
</file>