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D48-EC3E-47D8-9ACD-037F4785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399-1842-4E99-8FAC-3029A7E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39F-307A-41EF-BE08-47DCEEEC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A01-6742-427B-A86D-CDA094E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B5B5-CC48-4488-97C2-B993752D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846D-DF2E-4F29-BF71-61F5209F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B3F-6DAD-4AE9-88FE-D48FB001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EC0-0FAE-4E4E-B475-CF50623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F0AE-3A89-4817-B7E3-99DEAAA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2930-7272-4EBD-B322-A175660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08DB-A895-4E4E-9CDD-05EA6A3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9E7-295F-4A79-AED3-A7F6F64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760-0632-4708-A429-618F157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4F5-B9E9-428E-B16F-401A2D2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7A8-F3E8-4F12-A8AD-880B2364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BFF-3004-4B74-A95A-7677A17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4D83-9153-40CF-95B6-C267C892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921-CB2B-4094-B585-81BFDFB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BA4-C722-4EB9-A6DD-1A458C7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704-3262-4399-A9EC-8B2D0E9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90C-4578-4833-97F6-E9DE20D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676-B722-414A-8D39-AAAA02D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03A-7DA4-4796-BBEE-BB15768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CFB-4521-4F5F-971F-AF57075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4D60-83E5-48D9-8C18-6FFFBC9879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651640" y="5877000"/>
            <a:ext cx="3492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D193-C369-4FBE-823C-CD08C0A1E1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efischu.wm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ec-formation.net/defischu.wm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349360"/>
            <a:ext cx="8351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L’implantation de la méthodologie </a:t>
            </a:r>
            <a:br>
              <a:rPr sz="2800"/>
            </a:b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Gineste- Marescotti </a:t>
            </a:r>
            <a:br>
              <a:rPr sz="2800"/>
            </a:b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au Centre  hospitalier universitaire de Québe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508640"/>
            <a:ext cx="6400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lles Le Beau, Ingénieu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eur de l’amélioration des conditions a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entre hospitalier universitaire de Québec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1 ma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2920" y="4005360"/>
            <a:ext cx="4176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44280"/>
            <a:ext cx="9036000" cy="2016000"/>
            <a:chOff x="0" y="44280"/>
            <a:chExt cx="9036000" cy="2016000"/>
          </a:xfrm>
        </p:grpSpPr>
        <p:pic>
          <p:nvPicPr>
            <p:cNvPr id="11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47640" y="117000"/>
              <a:ext cx="1262160" cy="187020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227640" y="44280"/>
              <a:ext cx="1224000" cy="810720"/>
            </a:xfrm>
            <a:prstGeom prst="rect">
              <a:avLst/>
            </a:prstGeom>
            <a:ln w="50760">
              <a:solidFill>
                <a:srgbClr val="5f5f5f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211800" y="1023120"/>
              <a:ext cx="1168560" cy="96444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3008160" y="188640"/>
              <a:ext cx="1419480" cy="187164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627440" y="44280"/>
              <a:ext cx="1384560" cy="18435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0" y="333000"/>
              <a:ext cx="1332000" cy="123552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7677000" y="259920"/>
              <a:ext cx="1359000" cy="146592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4873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Lien de la méthodologie avec la philosophie de soins du CHUQ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99"/>
                </a:solidFill>
                <a:latin typeface="Tahoma"/>
              </a:rPr>
              <a:t>S’inspire grandement de l’approche humani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99"/>
                </a:solidFill>
                <a:latin typeface="Tahoma"/>
              </a:rPr>
              <a:t>Représente les éléments sur lesquels se fonde notre conception des soins : la personne, l’environnement, la santé et les soins infirmiers qui s’intègrent aux dimensions  du « caring 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Lien avec la philosophie de soins du CHUQ -  le «caring»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Le «caring» est au cœur des soins infirmiers, il est une façon d’être, d’être en relation et  d’ag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Il signifie cette relation à l’autre, cette préoccupation pour l’autre qui rend capable de soigner vra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Il réunit la pensée, le sentiment, l’action, le savoir et l’être. (Benner &amp; Wrubel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Opération de sensibilisation CHUQ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2003-2004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adership du 1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ahoma"/>
              </a:rPr>
              <a:t>er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Centre-est du CHUL - poursuite des travaux de la démarche appréciativ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hilosophie et approche de développement organisationnel dont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idée de base est de centrer l’attention et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énergie des personnes sur le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forces et les aspects positifs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plutôt que sur leur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faiblesses et problè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ération de sensibilisation CHUQ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03-2004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Juin 2003 : Visite de M. Gine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onférences, visite de l’unité, rencontre du personnel, démonstration pour 300 invi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Juin  2004 : Seconde visite de M. Gine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onférences, séminaires publics, démonstration et rencontre de 500 personnes clés du CHUQ et de la ré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191120" cy="6216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77156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3760"/>
            <a:ext cx="8351640" cy="672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Implantation de la méthodologie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 a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ans un horizon de quatre ans, dispenser à la clientèle vieillissante des soins et des services de qualité basés sur </a:t>
            </a:r>
            <a:r>
              <a:rPr b="1" i="1" lang="en-US" sz="2400" spc="-1" strike="noStrike">
                <a:solidFill>
                  <a:srgbClr val="000099"/>
                </a:solidFill>
                <a:latin typeface="Tahoma"/>
              </a:rPr>
              <a:t>l’Human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éfi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mplanter la méthodologie à l’environnement de «court séjour» et l’exporter vers les «secteurs aigus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dapter la formation à notre ré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720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ÉTAPES DE L’IMPLANTATION DE LA 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1532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Stratégies de ré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Approbation par les différentes directions et conseils 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Implication du syndic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Choix de deux unité pil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Formation d’une équipe de formateurs multidisciplinaires expérimen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ÉTAPES DE L’IMPLANTATION DE LA 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Développement et validation d’un contenu pédagogique de formation adaptée pour les infirmières et les professionne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Formation des intervenants des deux unités de soins ret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Développement d’un cadre de rendement de l’impla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an de communication interne-ex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Quelques artisans de l’implantation de la méthodologie a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7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Témoignages vidéo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Sylvie Boucher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Cogestionnaire du regroupement de clientèles – Personnes adultes en perte d’autonomie et responsable des services généra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86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Auteure ou co-auteure  de présentations et textes ayant servi de source d’inspiration à cette confé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Lucie Bilodeau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Coordonnatrice d’activités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Russel Robitaille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Préposé aux bénéficiaires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Lise Bérubé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 clinicienne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Michèle Bédard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,</a:t>
            </a: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Unité de soins de courte durée gériatr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Sylvie Imbeault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 clinicienne, Unité de soins de courte durée gériatr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Michel Boudreault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Directeur des ressources humaines et du développement des compét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Deux unités pilotes 2003 -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CDG CHUL (courte duré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MPT (longue duré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hoix du contenu pédagog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daptation de la formation de l ’ASST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Développer et valider un contenu pédagogique de formation adaptée pour les infirmières et les profess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ormation de 6 formateu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ormation de 80 intervenants multidisciplinaires dans les 2 unités pilo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oursuite de la formation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2006 (83 personn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aching des formateurs par IGM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CDG CHUL (courte durée) et MPT (longue durée) pour ceux qui n’ont pas eu la 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nité des vétérans (longue durée) (CHU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nité de soins de médecine interne (HSF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hoix du contenu pédagogique ASSTSAS/ IGM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oursuite de la formation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2007 : en cours 80 personnes concer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onsolidation dans les unités précéd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jout de l’unité de courte durée gériatrique (HSF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ormation dans toutes les unités réguliè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hoix du contenu pédagogique IGM Ca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IMPLANTATION DE LA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1532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Stratégies de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Suivi auprès du comité des services aux clientèles du conseil d’administration 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e0000"/>
                </a:solidFill>
                <a:latin typeface="Tahoma"/>
              </a:rPr>
              <a:t>Gagnant d’un prix Sirius  CHUQ 2005 dans la catégorie «Excellence services aux patients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ieurs conférences dans divers colloques au Québ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andidature soumise pour le prix d’excellence du réseau de la santé et des services sociaux catégorie « Accessibilité aux soins et services, février 2007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égration da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s objectifs d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gramme d’intégration du personnel professionnel et non profession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gramme de formation spécifique  sur le vieillissement (en cou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rmation du comité de pratique réflective géria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iens avec les maisons d’enseign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ppuyer l’approche sur les données probantes 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mélioration de la qualité des soi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dicateurs de qualité : contentions, chutes et mé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esure au temps t=0: nouvelle mesure à venir au temps t=2 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RE DE RENDE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193" name=""/>
          <p:cNvSpPr/>
          <p:nvPr/>
        </p:nvSpPr>
        <p:spPr>
          <a:xfrm>
            <a:off x="900000" y="5805360"/>
            <a:ext cx="807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Tahoma"/>
              </a:rPr>
              <a:t>En lien avec la mission du CHUQ en matière d’évaluation des programmes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RE DE RENDE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Questionnaire auto administré aux participants à la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scientifique 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bservation directe de situations de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ubjectiv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atisfaction élevée du contenu et des méthodes pédagogiques par les form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Participants déclarent utiliser l’approche lors des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uscite un sentiment de compétence chez le person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 u="sng">
                <a:solidFill>
                  <a:srgbClr val="000099"/>
                </a:solidFill>
                <a:uFillTx/>
                <a:latin typeface="Tahoma"/>
              </a:rPr>
              <a:t>Objective </a:t>
            </a: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: résultats prélimin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158 observations par des chercheurs en 2005 et 424 en 20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4 situations de soins en 2005 (élimination, alimentation, hygiène, déplace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2006 : ajout de prise des signes vitaux, administration de mé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8 indicateurs d’utilisation de la méthodologi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Utilisation concrète des indicateurs variant de 20,9 % à 62,7 % en 2005 et de 24,3 % à 64,9 % en 2006. (meilleur résultat obtenu toutes formations confondu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PRÉSENT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SSTSAS : contexte e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ensibilisation à la méthodologie au CHU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jet pilo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dre de rend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emiers résult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ersonnel formé et non form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ffet culturel envers l’utilisation du toucher? Le réflexe de l’utilisation de la paume de la main peut-être un long apprenti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onne démonstration de la formation au bénéfice du transfert des compét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atients : étude très prélimin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à deux repri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5 patients atteints de déficit cognitif avec la grille d’inventaire d’agitation de Cohen Mans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7 patients en courte durée avec l’échelle de mesure d’autonomie physi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Effet démontré malgré le petit échantillon d’une diminution des comportements perturbateurs de patients en longue dur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Effet non démontré en «courte durée» de l’amélioration de l’autonomie fonctionn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ce0000"/>
                </a:solidFill>
                <a:latin typeface="Tahoma"/>
              </a:rPr>
              <a:t>Mais mise en évidence échantillon non significatif/choix de l’outil de mesure à revo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73454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8345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mélioration des soins e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une réévaluation de la compétence des patients dans leur participation aux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Meilleure disponibilité psychologique du personnel à une relation thérapeu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plus grande humanisation des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 sentiment d’efficacité qui rend les soins plus faciles et un meilleur contact avec les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suit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méliore le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conditions d’exercice du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travail 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t l’ambiance dans l’un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d’offrir au personnel une approche qui agit sur le sentiment d’efficacité et la satisfaction du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Redéfinit la notion de performance à partir de la primauté du contact avec l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uie l’équipe dans les situations diffic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suit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 programme de formation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émontre un effet sur la pratique des soins et est perçu comme utilisable par l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réciation élevée de la relation égalitaire avec les formateurs issus des unités de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d’approfondir et d’analyser nos façons de f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alternance entre la théorie et la pratique est très appréci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Témoignages : </a:t>
            </a: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ommentaires du premier groupe d’intervenants formés  lors de l’activité de consolidation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Vivre le moment présent avec nos patients dans un contexte de vit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Les patients se sentent aimés, ils apprécient l’approche et le di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Favorise l’autonomie de nos pat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Apporte de la reconnaissance et des «feed-back» posi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Témoignages : </a:t>
            </a: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ommentaires du premier groupe d’intervenants formés  lors de l’activité de consolidation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Les relations entre nous sont  de plus en plus faciles  car le travail est plus agréable et facil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Nous prenons conscience de l’humain tous en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Rare formation favorisant l’équilibre entre la théorie et la pra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486640" y="692280"/>
            <a:ext cx="657000" cy="965160"/>
            <a:chOff x="8486640" y="692280"/>
            <a:chExt cx="657000" cy="9651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8773920" y="692280"/>
              <a:ext cx="36972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8486640" y="923760"/>
              <a:ext cx="259200" cy="51732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233" name=""/>
          <p:cNvSpPr/>
          <p:nvPr/>
        </p:nvSpPr>
        <p:spPr>
          <a:xfrm>
            <a:off x="14320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1989000"/>
            <a:ext cx="77043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a méthodologie fonctionne aussi en courte dur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 La stratégie de formation est efficace : dès qu’un nombre assez grand de personnes est formé, la contamination s’instal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ce0000"/>
                </a:solidFill>
                <a:latin typeface="Tahoma"/>
              </a:rPr>
              <a:t>Il est évident que l’expérience est une réus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La petite histoire de la collaboration entre l’ASSTSAS et  Gineste-Marescoti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au Québe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1998 : Première rencontre avec M. Yves Gin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0 : Entente de partenari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1 : Stage de conseillers e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2 : Première formation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3 à aujourd’hui: Deux fournisseurs de la formation selon la méthod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SSTSAS : approche relationnelle de so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GM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a mise à jour périodique de la formation est nécessaire pour intégrer tous les aspects. La présence de formateurs ou de référents dans les unités est essentiel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5. La méthodologie est maintenant bien ancrée dans nos pratiques internes et fait partie de notre développement fu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ALEMENT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242" name=""/>
          <p:cNvSpPr/>
          <p:nvPr/>
        </p:nvSpPr>
        <p:spPr>
          <a:xfrm>
            <a:off x="14320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2014560"/>
            <a:ext cx="808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ette approche est à la fo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philosophie organisationne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articip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nterdiscipli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lle s’appuie s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 potentiel de la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a promotion de son autonomie fonctionn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réponse adaptée à s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666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ci de votre attention ! 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ienvenue chez nous en 2008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Venez célébrer avec nous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0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anniversaire de la ville de Québec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61672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Avantages perçus par le conseil d’administration de l’ASSTSAS 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anté psycho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ens du travail (prépos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Reconnaiss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Qualité des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157720"/>
            <a:ext cx="726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Tahoma"/>
              </a:rPr>
              <a:t>Association pour la santé et la sécurité du travail secteur affair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 d’autres mots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 les patients sont autonomes, plus le travail des soignants devient sécuritai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 la relation entre les patients et le soignant est harmonieuse, plus les soignants sont satisfaits de leur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Les mauvaises réactions des patients sont limitées par des interventions judicieuses des soignants et le recours au langage verbal et non ver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UQ : CONTEX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30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39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ojet organisationnel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remier CHU au Québec à expérimenter la méth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ui de la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ien avec la vision partagée des soins infirmiers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1) Impact de la méthodologie sur les dimensions   culturelle, politique et 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5600" y="3048120"/>
            <a:ext cx="6028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Témoignage vidéo 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directeur des ressources hum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UQ : CONTEX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6050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lientèle vieilliss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rebuchet MS"/>
              </a:rPr>
              <a:t>Problématique des soins de courte durée vs la démograph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rebuchet MS"/>
              </a:rPr>
              <a:t>Adaptation de la prestation de service à la clientè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tout à la mobilisation des équ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timulation de l’intérêt à travailler avec la clientèle vieilliss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rétariat</cp:lastModifiedBy>
  <dcterms:modified xsi:type="dcterms:W3CDTF">2007-10-13T07:17:53Z</dcterms:modified>
  <cp:revision>4</cp:revision>
  <dc:subject/>
  <dc:title>Présentation PowerPoint</dc:title>
</cp:coreProperties>
</file>