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FA0E-F201-4B05-BE71-2DF0AF5C5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9C62-F0FD-4590-BC01-BB0552D6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1F1D-5011-4F9E-91D9-AA1D1C1E4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FD1C-826D-46E3-9784-A6BBD6AF5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56E2-FDA1-411D-B64C-3DB93673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35DD-E7D1-44AF-B81A-EC6C7390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E7C2-A99A-40DF-BF58-F9FCB3FC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1511-509C-4748-B219-C0C123AD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6603-9EC7-47FA-ACB6-BD36CB4B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955E-9138-4A25-A633-8882535A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B3B1-CDDA-4CD4-9B13-AF853458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677B-FDCF-4937-A7C7-7BE4178F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9FB9-B37D-4BA5-ABE0-289EEB9457EE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Gisèle Pilette, D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Éric Patenaude, Éduc. Spé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Nathalie Bruneau, P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Novembre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" y="685800"/>
            <a:ext cx="86104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07932" dir="8100000" blurRad="0" rotWithShape="0">
                    <a:srgbClr val="95afa4">
                      <a:alpha val="50000"/>
                    </a:srgbClr>
                  </a:outerShdw>
                </a:effectLst>
                <a:latin typeface="TimelessTLig"/>
              </a:rPr>
              <a:t>Impacts de l'implantation de la méthodologie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07932" dir="8100000" blurRad="0" rotWithShape="0">
                  <a:srgbClr val="95afa4">
                    <a:alpha val="50000"/>
                  </a:srgbClr>
                </a:outerShdw>
              </a:effectLst>
              <a:latin typeface="TimelessTLig"/>
              <a:ea typeface="TimelessTLig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07932" dir="8100000" blurRad="0" rotWithShape="0">
                    <a:srgbClr val="95afa4">
                      <a:alpha val="50000"/>
                    </a:srgbClr>
                  </a:outerShdw>
                </a:effectLst>
                <a:latin typeface="TimelessTLig"/>
              </a:rPr>
              <a:t>de soins Gineste-Marescotti au CLSC-CHSLD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07932" dir="8100000" blurRad="0" rotWithShape="0">
                  <a:srgbClr val="95afa4">
                    <a:alpha val="50000"/>
                  </a:srgbClr>
                </a:outerShdw>
              </a:effectLst>
              <a:latin typeface="TimelessTLig"/>
              <a:ea typeface="TimelessTLig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07932" dir="8100000" blurRad="0" rotWithShape="0">
                    <a:srgbClr val="95afa4">
                      <a:alpha val="50000"/>
                    </a:srgbClr>
                  </a:outerShdw>
                </a:effectLst>
                <a:latin typeface="TimelessTLig"/>
              </a:rPr>
              <a:t>de la MRC d'ACTON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07932" dir="8100000" blurRad="0" rotWithShape="0">
                  <a:srgbClr val="95afa4">
                    <a:alpha val="50000"/>
                  </a:srgbClr>
                </a:outerShdw>
              </a:effectLst>
              <a:latin typeface="TimelessTLig"/>
              <a:ea typeface="TimelessTLig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1143000"/>
            <a:ext cx="8153280" cy="1600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3276720"/>
            <a:ext cx="7925040" cy="32004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90920" y="34290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OBJECTIF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609480"/>
            <a:ext cx="815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ES PHASES D’IMPLA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4880" y="175248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idation de la formation des deux agents multiplicateurs qui deviendront des instructeurs responsables de la formation des nouveaux employé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71840" y="4343400"/>
            <a:ext cx="66294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Élaboration d’un plan de 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tien de la flam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VAUX EN C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4880" y="1333440"/>
            <a:ext cx="53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ASE 6 –  Septembr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antation de la méthodologie Gineste-Marescot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62320" y="6667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ACTS MAJ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3200" y="1190520"/>
            <a:ext cx="9601200" cy="16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ésida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nomie améliorée chez environ 70% des résidants cibl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icipation accrue aux so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étente musculaire améliorée chez environ 90% de la clientèle avec contra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3200" y="2743200"/>
            <a:ext cx="7543800" cy="24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tervena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Goût de ‘’prendre soin’’ intensifié chez le perso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Valorisation de l’importance du rôle des interven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Soins personnalisés à la condition de chac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Plus grande facilité à entrer en relation avec la person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Sensibilisés aux bienfaits de la vertical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3200" y="5146560"/>
            <a:ext cx="7543800" cy="16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Gestionnai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ngement des habitudes no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illeure gestion des comportements d’agi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formisation de la manière de prendre so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696080" cy="5789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905120" y="1600200"/>
            <a:ext cx="5715000" cy="3819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" dur="5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5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14680" y="2057400"/>
            <a:ext cx="5715000" cy="3819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562040" y="457200"/>
            <a:ext cx="60962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07932" dir="8100000" blurRad="0" rotWithShape="0">
                    <a:srgbClr val="95afa4">
                      <a:alpha val="50000"/>
                    </a:srgbClr>
                  </a:outerShdw>
                </a:effectLst>
                <a:latin typeface="TimelessTLig"/>
              </a:rPr>
              <a:t>Pourquoi Gineste-Marescotti ...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07932" dir="8100000" blurRad="0" rotWithShape="0">
                  <a:srgbClr val="95afa4">
                    <a:alpha val="50000"/>
                  </a:srgbClr>
                </a:outerShdw>
              </a:effectLst>
              <a:latin typeface="TimelessTLig"/>
              <a:ea typeface="TimelessTLig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1143000"/>
            <a:ext cx="8142120" cy="1925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3276720"/>
            <a:ext cx="7925040" cy="32004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90920" y="34290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IMPA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609480"/>
            <a:ext cx="815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ES PHASES D’IMPLA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1557360"/>
            <a:ext cx="8064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urnée d’introduction pour les préposées aux bénéficiaires, les auxiliaires familiales et l’équipe de ges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urnée d’introduction pour l’ensemble des autres intervenants y compris le personnel de soutien et les membres du 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4343400"/>
            <a:ext cx="66294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se de consc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sion différente de l’us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e à l’essai des techniques apprises et résultats  immédi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1125360"/>
            <a:ext cx="40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ASE 1 – Début en Mars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762120"/>
            <a:ext cx="815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LANIFICATION DES ST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1360" y="1581120"/>
            <a:ext cx="8934480" cy="43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signation d’une responsable de s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énagement des salles de b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ntaire/achat d’équip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signation d’une équipe de ‘’coachs’’ (agents multiplicateurs G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tention des consent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ag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8380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LICATION DES FAMI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16765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ÉVRIER 2004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oirée d’information à l’intention des famil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9520" y="2438280"/>
            <a:ext cx="8686800" cy="18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IF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ibiliser les familles à la méthodolog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voriser les échanges et verbaliser les inquiétu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tenir les consentements requ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498920"/>
            <a:ext cx="868680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A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on différente du CHS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ureux que le personnel se préoccupe de la qualité de 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3520" y="1143000"/>
            <a:ext cx="8153280" cy="1600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276720"/>
            <a:ext cx="7925040" cy="32004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90920" y="34290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IMPA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609480"/>
            <a:ext cx="815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ES PHASES D’IMPLA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4880" y="1619280"/>
            <a:ext cx="8001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journées de stage à l’interne pour les 12 agents multiplicateurs ayant été sélectionné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journées de stages pour les PAB, AFS, infirmières, inf. auxiliaires, TR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52800" y="4191120"/>
            <a:ext cx="6629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illeure communication avec les usag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e en pratique qui donne des résult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orisation du rôle des interven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minution de l’épuis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4880" y="13032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ASE 2 – Février à Juin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3520" y="1143000"/>
            <a:ext cx="8153280" cy="1600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3213000"/>
            <a:ext cx="7924680" cy="32004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32000" y="3284640"/>
            <a:ext cx="2664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Exe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609480"/>
            <a:ext cx="815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ES PHASES D’IMPLA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4880" y="173340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Élaboration et /ou ajustement d’outils de support à l’implantation                                             PROCESSUS CONTIN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4880" y="133344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ASE 3 – Février à Juillet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3080" y="4005360"/>
            <a:ext cx="41040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Fiche « synthèse de vie 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Fiche « toilette évaluative 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Formulaire d’autoé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Lignes directr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3520" y="1143000"/>
            <a:ext cx="8153280" cy="1600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3276720"/>
            <a:ext cx="7925040" cy="32004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0920" y="34290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IMPA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609480"/>
            <a:ext cx="815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ES PHASES D’IMPLA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4880" y="186696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urnée d’introduction à la méthodologie pour les organismes du milieu :  Résidences privées, transport adapté, bénévo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46864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port adapté : approche différente vis-à-vis la clientè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4880" y="133344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ASE 4 –  Juin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09480" y="3276720"/>
            <a:ext cx="7925040" cy="32004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34290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IMPA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609480"/>
            <a:ext cx="815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ES PHASES D’IMPLA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1143000"/>
            <a:ext cx="8153280" cy="1600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4880" y="184788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urnée de suivi dans le milieu avec la consultante.                        Rencontres du personnel, des familles et des gestionnai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4324320"/>
            <a:ext cx="66294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justement des out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ations des familles : ‘’Mon proche a changé…’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milles se préoccupant davantage des so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4880" y="133344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ASE 5 –  Juillet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13:21:41Z</dcterms:created>
  <dc:creator>Administrateur</dc:creator>
  <dc:description/>
  <dc:language>en-US</dc:language>
  <cp:lastModifiedBy>pilgis01</cp:lastModifiedBy>
  <dcterms:modified xsi:type="dcterms:W3CDTF">2004-11-11T13:45:52Z</dcterms:modified>
  <cp:revision>33</cp:revision>
  <dc:subject/>
  <dc:title>Présentation PowerPoint</dc:title>
</cp:coreProperties>
</file>