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A444-E2C8-4ED9-9FD5-F5DF7CE9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0428-78D8-49DE-9C26-BD34A39A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809F-BE77-4501-8D9A-8522D0B2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839E-DEE5-4936-842D-22FB994A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D6B0-ACCB-4C3D-950F-F985F06A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C75-C151-43A4-8619-80825A4A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DB5F-3D75-4719-B39C-B75E17E8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C42-6ADA-40D1-8F5E-B4B3B2D6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2F50-AA6F-485A-ABC5-425B8C34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A4FC-6BE7-41B2-9463-25083A19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493E-7736-417B-9F0F-C2EBC5A3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6373-BBD8-4605-8A3D-98E1E2EF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E370-DFED-4BAE-89CD-84927A72B70F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Gisèle Pilette, D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Éric Patenaude, Éduc. Spé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Nathalie Bruneau, P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Novembre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685800"/>
            <a:ext cx="86104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07932" dir="8100000" blurRad="0" rotWithShape="0">
                    <a:srgbClr val="95afa4">
                      <a:alpha val="50000"/>
                    </a:srgbClr>
                  </a:outerShdw>
                </a:effectLst>
                <a:latin typeface="TimelessTLig"/>
              </a:rPr>
              <a:t>Impacts de l'implantation de la méthodologi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07932" dir="8100000" blurRad="0" rotWithShape="0">
                  <a:srgbClr val="95afa4">
                    <a:alpha val="50000"/>
                  </a:srgbClr>
                </a:outerShdw>
              </a:effectLst>
              <a:latin typeface="TimelessTLig"/>
              <a:ea typeface="TimelessTLi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07932" dir="8100000" blurRad="0" rotWithShape="0">
                    <a:srgbClr val="95afa4">
                      <a:alpha val="50000"/>
                    </a:srgbClr>
                  </a:outerShdw>
                </a:effectLst>
                <a:latin typeface="TimelessTLig"/>
              </a:rPr>
              <a:t>de soins Gineste-Marescotti au CLSC-CHSLD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07932" dir="8100000" blurRad="0" rotWithShape="0">
                  <a:srgbClr val="95afa4">
                    <a:alpha val="50000"/>
                  </a:srgbClr>
                </a:outerShdw>
              </a:effectLst>
              <a:latin typeface="TimelessTLig"/>
              <a:ea typeface="TimelessTLi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07932" dir="8100000" blurRad="0" rotWithShape="0">
                    <a:srgbClr val="95afa4">
                      <a:alpha val="50000"/>
                    </a:srgbClr>
                  </a:outerShdw>
                </a:effectLst>
                <a:latin typeface="TimelessTLig"/>
              </a:rPr>
              <a:t>de la MRC d'ACTON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07932" dir="8100000" blurRad="0" rotWithShape="0">
                  <a:srgbClr val="95afa4">
                    <a:alpha val="50000"/>
                  </a:srgbClr>
                </a:outerShdw>
              </a:effectLst>
              <a:latin typeface="TimelessTLig"/>
              <a:ea typeface="TimelessTLig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1143000"/>
            <a:ext cx="8153280" cy="1600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276720"/>
            <a:ext cx="7925040" cy="3200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3429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BJECTIF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60948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S PHASES D’IMPLA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4880" y="17524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idation de la formation des deux agents multiplicateurs qui deviendront des instructeurs responsables de la formation des nouveaux employ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71840" y="4343400"/>
            <a:ext cx="6629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laboration d’un plan de 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tien de la fl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VAUX EN C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4880" y="133344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6 –  Septembr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antation de la méthodologie Gineste-Maresco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666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ACTS MAJ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3200" y="1190520"/>
            <a:ext cx="960120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ésida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nomie améliorée chez environ 70% des résidants cibl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icipation accrue aux so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étente musculaire améliorée chez environ 90% de la clientèle avec contra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3200" y="2743200"/>
            <a:ext cx="754380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tervena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Goût de ‘’prendre soin’’ intensifié chez le perso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Valorisation de l’importance du rôle des interven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Soins personnalisés à la condition de chac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Plus grande facilité à entrer en relation avec la perso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</a:rPr>
              <a:t>Sensibilisés aux bienfaits de la vertical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3200" y="5146560"/>
            <a:ext cx="754380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stionnai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gement des habitudes no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illeure gestion des comportements d’ag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formisation de la manière de prendre so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789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905120" y="1600200"/>
            <a:ext cx="5715000" cy="3819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5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14680" y="2057400"/>
            <a:ext cx="5715000" cy="3819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562040" y="457200"/>
            <a:ext cx="6096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07932" dir="8100000" blurRad="0" rotWithShape="0">
                    <a:srgbClr val="95afa4">
                      <a:alpha val="50000"/>
                    </a:srgbClr>
                  </a:outerShdw>
                </a:effectLst>
                <a:latin typeface="TimelessTLig"/>
              </a:rPr>
              <a:t>Pourquoi Gineste-Marescotti ...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07932" dir="8100000" blurRad="0" rotWithShape="0">
                  <a:srgbClr val="95afa4">
                    <a:alpha val="50000"/>
                  </a:srgbClr>
                </a:outerShdw>
              </a:effectLst>
              <a:latin typeface="TimelessTLig"/>
              <a:ea typeface="TimelessTLig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1143000"/>
            <a:ext cx="8142120" cy="1925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276720"/>
            <a:ext cx="7925040" cy="3200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3429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MP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0948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S PHASES D’IMPLA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557360"/>
            <a:ext cx="8064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urnée d’introduction pour les préposées aux bénéficiaires, les auxiliaires familiales et l’équipe de g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urnée d’introduction pour l’ensemble des autres intervenants y compris le personnel de soutien et les membres du 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343400"/>
            <a:ext cx="6629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se de con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ion différente de l’us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e à l’essai des techniques apprises et résultats  immédi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12536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1 – Début en Mars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76212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LANIFICATION DES ST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1360" y="1581120"/>
            <a:ext cx="8934480" cy="43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signation d’une responsable de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énagement des salles de b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ntaire/achat d’équip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signation d’une équipe de ‘’coachs’’ (agents multiplicateurs G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ention des consent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g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8380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LICATION DES FAM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676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ÉVRIER 2004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oirée d’information à l’intention des famil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9520" y="2438280"/>
            <a:ext cx="868680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F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biliser les familles à la méthodolog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voriser les échanges et verbaliser les inquiétu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enir les consentements requ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498920"/>
            <a:ext cx="86868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A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on différente du CHS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eux que le personnel se préoccupe de la qualité de 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1143000"/>
            <a:ext cx="8153280" cy="1600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276720"/>
            <a:ext cx="7925040" cy="3200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3429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MP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60948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S PHASES D’IMPLA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880" y="1619280"/>
            <a:ext cx="8001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journées de stage à l’interne pour les 12 agents multiplicateurs ayant été sélectionné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journées de stages pour les PAB, AFS, infirmières, inf. auxiliaires, T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52800" y="4191120"/>
            <a:ext cx="6629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illeure communication avec les usa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e en pratique qui donne des résult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orisation du rôle des interven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minution de l’épui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4880" y="13032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2 – Février à Juin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1143000"/>
            <a:ext cx="8153280" cy="1600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213000"/>
            <a:ext cx="7924680" cy="3200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3284640"/>
            <a:ext cx="266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xe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60948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S PHASES D’IMPLA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4880" y="17334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laboration et /ou ajustement d’outils de support à l’implantation                                             PROCESSUS CONTIN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4880" y="133344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3 – Février à Juillet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3080" y="4005360"/>
            <a:ext cx="4104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Fiche « synthèse de vie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Fiche « toilette évaluative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Formulaire d’autoé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Lignes directr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1143000"/>
            <a:ext cx="8153280" cy="1600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3276720"/>
            <a:ext cx="7925040" cy="3200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3429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MP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60948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S PHASES D’IMPLA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4880" y="18669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urnée d’introduction à la méthodologie pour les organismes du milieu :  Résidences privées, transport adapté, bénévo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46864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ort adapté : approche différente vis-à-vis la clientè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4880" y="133344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4 –  Juin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3276720"/>
            <a:ext cx="7925040" cy="3200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3429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MP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609480"/>
            <a:ext cx="815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S PHASES D’IMPLA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143000"/>
            <a:ext cx="8153280" cy="1600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4880" y="18478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urnée de suivi dans le milieu avec la consultante.                        Rencontres du personnel, des familles et des gestionnai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4324320"/>
            <a:ext cx="6629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justement des out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ations des familles : ‘’Mon proche a changé…’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milles se préoccupant davantage des so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4880" y="133344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ASE 5 –  Juillet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3:21:41Z</dcterms:created>
  <dc:creator>Administrateur</dc:creator>
  <dc:description/>
  <dc:language>en-US</dc:language>
  <cp:lastModifiedBy>pilgis01</cp:lastModifiedBy>
  <dcterms:modified xsi:type="dcterms:W3CDTF">2004-11-11T13:45:52Z</dcterms:modified>
  <cp:revision>33</cp:revision>
  <dc:subject/>
  <dc:title>Présentation PowerPoint</dc:title>
</cp:coreProperties>
</file>